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B0B-5575-493F-8C47-EF9CCC91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09B-1AD1-4DD3-95DD-A7F6CD02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7FA-0C80-43A0-B13F-D8E48C09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676-394E-416F-BCF4-ED6AA314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2E9-26F7-4342-AB22-E63DC38B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167-ABEB-44F2-B628-22077380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DAB-8A14-4CF7-A2E5-3F1F86D9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A47-5B12-4E73-BA6C-4398E3F4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26D-36B0-4E64-B53B-4C04FDBA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221-7E50-4EFE-A51C-7862B52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FD5-E987-462D-B05B-F38EA4E0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FD0-4379-440B-8D1C-8F71876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9BF9-A699-42F9-A8EB-260A03B4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ceagenow.com/index_files/image001.jpg&amp;imgrefurl=http://www.iceagenow.com/&amp;h=353&amp;w=635&amp;sz=23&amp;hl=en&amp;start=8&amp;tbnid=lVZcRDPrtulPEM:&amp;tbnh=76&amp;tbnw=137&amp;prev=/images%3Fq%3Dice%2Bage%26svnum%3D10%26hl%3Den%26lr%3D%26safe%3Dactiv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olarvoyager.com/images/art/Greenland%20Meteor%20by%20Don%20Dixo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avidreilly.com/dodo/images/gallery/engraving_of_dodo11534121.jpg&amp;imgrefurl=http://www.davidreilly.com/dodo/gallery.html&amp;h=480&amp;w=605&amp;sz=57&amp;hl=en&amp;start=4&amp;tbnid=nVr1_PpSBMGVNM:&amp;tbnh=107&amp;tbnw=135&amp;prev=/images%3Fq%3Ddodo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 as a d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all this about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many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predator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disease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276640"/>
            <a:ext cx="4176720" cy="231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47640" y="2205000"/>
            <a:ext cx="60487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.L.Es (ell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.L.Es (ell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 level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590920"/>
            <a:ext cx="2664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0600" y="966960"/>
            <a:ext cx="656280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predator arr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stralian brown tree snake was imported to Guam after world war 2, by the 1960s lots of species of bird were becoming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5370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pre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think of any other ways that a new predator could get introduced into an eco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pre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think of any other ways that a new predator could get introduced into an eco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03640" y="3716280"/>
            <a:ext cx="3324240" cy="2048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3333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5267160" cy="3816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manian devil of New Zealand is dying of a new form of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tation might give one animal a big advantage over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as many extinct animals as you 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205000"/>
            <a:ext cx="26593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QA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ge 115 – answer qs 1, 2 &amp;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change’, ‘Meteorite’, ‘Predators’, ‘Disease’ and ‘Competitio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these in order of signifi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ady to explain you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species are still a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ch of these letters represents 1 million species and there are 4000 of them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There are 2 million species alive, identified and na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There are between 5-100 million species alive but unident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ff00"/>
                </a:solidFill>
                <a:latin typeface="Arial"/>
              </a:rPr>
              <a:t>aaaaaaaaaaaaaaaaaaaaaaaaaaaaaaaaaaaaaaaaaaaaaaaaaaaaaaaaaaaaaaaaaaaaaaaaaaaaaaaaaaaaaaaaaaaaaaaaaaaaaaaaaaaaaa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st are extin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ff00"/>
                </a:solidFill>
                <a:latin typeface="Arial"/>
              </a:rPr>
              <a:t>aaaaaaaaaaaaaaaaaaaaaaaaaaaaaaaaaaaaaaaaaaaaaaaaaaaaaaaaaaaaaaaaaaaaaaaaaaaaaaaaaaaaaaaaaaaaaaaaaaaaaaaaaaaaaa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all the species which have ever existed, 99.9 % are now extinct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658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it’s getting w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ut a thousand years ago, species became extinct at the rate of about 3 every hundred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now  losing species every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plant and animal species are emerging, University of Minnesota ecology professor David Tilman says, but not nearly fast enough to make up for the toll caused by human activ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That's sort of a 1 million to 4 million year process, and yet we are causing species to be lost at rates of 100 to 1000 times faster," he 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extin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2:19:30Z</dcterms:created>
  <dc:creator>sthobbsc</dc:creator>
  <dc:description/>
  <dc:language>en-US</dc:language>
  <cp:lastModifiedBy>sthobbsc</cp:lastModifiedBy>
  <dcterms:modified xsi:type="dcterms:W3CDTF">2007-02-05T10:18:54Z</dcterms:modified>
  <cp:revision>3</cp:revision>
  <dc:subject/>
  <dc:title>Dead as a dodo</dc:title>
</cp:coreProperties>
</file>